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46FF-D066-4BAF-B54F-08FE4E9929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FA07-DFB0-4413-9C25-E7DE5F3B2BD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AC6C-6DDD-4E85-911E-B60AB9B0BA02}"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7530-94E1-4EAB-B3C6-C720EF8B852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8381-8DFD-4403-BE25-3F43FD223CB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BE46-AD3E-4857-A849-1865739DA8D9}"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9B00-EB24-4C3D-9F04-C20ED983388F}"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4840" y="696960"/>
            <a:ext cx="4648320" cy="3486240"/>
          </a:xfrm>
          <a:prstGeom prst="rect">
            <a:avLst/>
          </a:prstGeom>
          <a:ln w="0">
            <a:noFill/>
          </a:ln>
        </p:spPr>
      </p:sp>
      <p:sp>
        <p:nvSpPr>
          <p:cNvPr id="7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8BA5-5C72-45F6-9257-3BB884FC3F18}"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E84E-B948-46B5-8AC0-04437778A368}"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6773-985E-4947-9E36-0CE7A5CF549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216D-294F-4689-B87F-67ABF537CA82}"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49AD-3014-4DB1-97A3-33D6CDCD0F2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71EC-7D8B-48BC-A2F5-5A532CB90304}"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1F13-1166-44CD-A2D8-CDED3ABC51D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F039-EC25-4088-AA12-5A62C6A2FEA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59CC-72AB-4203-8ADC-4FF4CB29FC2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B23D5-3E52-4E40-AF88-A5AA22C08280}"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47A1-8ABA-41E1-9CA1-1AFE8866579F}"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28B09-58DA-40FB-A75C-F6ADFAA94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1CE8-9A23-4458-BE63-5C9BCA1E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8B857-5153-4054-986E-A12E039F3E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7F193-7F10-4C1F-9A58-AD39A176E1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DB84F-1BC7-481C-A111-621DCAE06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7E40A-27D6-465F-A7C2-5B4690461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9CEBA-E321-4E2E-8E90-0A08C52ED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5E447F-D605-42B7-9E4F-5DFF756F16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5A7126-4BAD-4CB0-88F0-949D8D3902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B8B8FE-C0E5-41F2-8E52-CACF38A18B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3199F-2B14-4A8A-9222-6149C26E96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D4FDCA-311F-4259-B003-57E8EBC8FB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9A925-7714-43B6-825D-A213FA639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8F4A0E-00CE-40E8-B05C-EC1EACB54A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287EDF-6FD2-4A8A-B4F8-EA6178F694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E0C7AE-2094-415E-8C22-42E19091F5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CCFA62-5023-48F4-928C-235D987AE9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F63F48-6DB8-4D7D-AF8A-55372287D6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F81D03-5FDC-420F-B0F9-ADCAEC5A29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703D6D-173F-47AA-A331-55E373A54F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3B76B6-8BB2-48D6-A3EA-3599256B26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C391CB-847A-4F99-ABD6-CADDC76C8A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E62DA1-ECFB-4E2A-9700-A308446E07B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CB24E-83C8-4D77-905D-60E5E456D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3A4637-6427-453D-AEB3-47A941AC47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F4F308-A39E-4EDA-8735-929C74F38D3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399C4A-0629-4725-A426-95882DED59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EBE896-D647-4615-A0EA-FAA3370C72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EF9BF4-29C8-401F-B2F4-65CEEBC345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22D60A-C336-4C86-A7B2-A9C2590CF1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B2E304-A9B5-4DA6-9DDD-4956C35687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4A6E60-DFE1-4356-82A4-A760819C82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91EF32-282C-4DD1-B555-5D679FB47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FEA3CB-FF77-4C9D-A473-98B0EE2C89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BC414-7DC5-4E9F-BE27-F5348DB766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9F35ED-A971-4775-A7EA-1E97EFEA66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B31F8AE-2171-40FB-AA2A-D97CA495C3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5E485B-B624-4709-9035-3228C4DCB9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51BD59C-7B33-46DC-9968-0DCE2E7FC4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563DB7-3C96-42D4-91F0-DB6EC9563C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B83E0D-6EE9-4343-8718-6E95CA6DC2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CA9BD8-6A69-48BF-8A08-BC0D1D55FD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D236A3-3CCC-450F-BEFA-A5CA1B2C2E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36EF4C-857C-4252-B624-D1FE179525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915C6F-4E32-4077-86F5-DA419CFD5D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6F257-DBF6-411B-BB24-936F4F170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E74F41-D8B9-4967-9101-5F8244F958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E5D53D-9CC0-4876-80BF-275C6673E8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286526-9D48-4F39-84E5-220C40358D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A38219-62F6-48B6-8FBB-FB1C15F6BE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40060B-4D81-4F96-AF76-DE644910E6A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546EB-4559-4A1B-B03D-4B3C258E5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46B54-ED70-4566-91E5-817110268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57704-14CA-4C84-BC2B-31DCF19D0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EDE25-317B-4B11-BE82-D20B208C7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C4BDA-0405-46BC-8F85-B04BAEC5B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C71F-01D4-4451-AE10-A4CD0CF59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2CF84-7828-4A48-8F52-051A36B8C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84DA7-7A77-4B1B-8ED3-470BE64F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018C4-9CB4-4345-9285-30FBC5B30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E8847-1FC5-49FA-932C-16BA999A8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1D2BE-A151-4C0F-B846-CCA34E4D00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AE436-CF00-45C8-A421-EC93261011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8F174-1FFE-4C79-AEE8-8ACEDE935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3AB653-60D2-4346-82BF-BD4DD941B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3F473-3912-4D58-88B1-27DFC9A3E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C241B-D612-4941-B3C4-A0364C9B9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811C7-21BF-4334-AC2F-4357F3B6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F677F-BBA5-4501-A0CC-007B1172BC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9D4BE-CE21-4954-87D1-EA5745847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8FEEB-EF10-4D00-A47D-F32547295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65F9C-8048-46A8-BC0C-1762B4938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0B45F-8D14-4332-B751-577E11997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8CA6CF-E534-46CB-B210-55F68D041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4884E-AB91-4EF2-851A-39AC75342C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A9BB63-9BDD-460A-A020-DADD48892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15742-9B1C-48A7-994F-4C90E1E7A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40BA0-8B23-4DB8-B8F3-F766B5795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F2C07-9D1B-4196-9FA9-F6EA851D6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F54D8-DC20-4A67-B197-70B49B587E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24871E-964C-478F-8B49-FE69B5605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C9C1D-38A6-4180-A5F0-7C5FDAA47F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FA7E3-7163-4961-A5FB-AF75A3DF5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AD3AB-2A77-4CE0-B635-499C8439B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90F47E-F4F4-48E8-BECF-F79B59647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C1BEA-F7A4-44D5-BC1D-4C6468184B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0539C5-7EED-4DD6-9964-E9139B50BA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344DB1-32DA-4812-B8BA-A02DB1EBFF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611895-A378-4873-AD34-87DC68BBF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5FFC-65B4-4B23-A38C-1F612AD0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BE138E-8776-4038-BC31-12ADE0EAC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ACE8D-289F-4E2F-A9ED-60A491014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2F93FA-506C-4611-85B5-2E46B20D4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B4CF0-2468-4DAE-A8CD-CE64210FA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99297-15DE-4908-85F4-2C85A4D94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1CD20-A8D4-4E25-8A6B-1DFA44968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134DB-6C81-4301-ACDA-09236BEE6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72AEA4-8172-40FD-932E-FD7D44F33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B9E26-31B6-47A8-BA17-599740C9B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A94A9-E702-4380-9CE7-C99D2A70A8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AE192-2408-409E-AB78-35C54DD9C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23DC3A-91C2-4D5B-9AE7-D19F36231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4F153F-2ACA-44FB-BC12-3889EB2A93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E8BA4-3336-4B55-A574-B09345828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20525-D805-42ED-AB8C-AA43B5DDC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4026E-6463-465C-BE46-2B43040F4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729A8-82BE-4552-9F3D-EF4B7945D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FB389A-DDF2-42A4-87A8-6D4AB30F8F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A8719-4619-46B5-B85A-E536D9308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FBAB4A-682D-4B26-AD8E-E8AB970395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A48408-F028-4240-B170-83A483D5E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3689-1C8F-42EA-AA04-397EE798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1D879-6752-466A-96E6-999F01BE3A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920740-98D1-4F0A-B70E-32685B6BC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C9D0F4-256F-4E2D-9DB6-88CEB9FAB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82959-0668-49D9-9D78-FB0BF1F042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49E1F0-4B37-4340-A4BE-65A3E24019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1FF1D3-1202-465E-8309-C9FD80ADFA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8B42F-7C3D-423B-917B-73429BECB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4E5B41-AFE6-483B-BAFA-19D289EDD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170178-D06D-485C-93F5-BBBFA85B0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7C48C-B47E-4708-93AA-11B863E61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F4F0-F6BA-4DEC-AE93-31C233F6B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8EC67-DF44-4427-9FFB-DCD140DB5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A745A-180F-4CFF-8791-9404AE6D0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E5BE2-19A8-45DD-9389-1A0E16B82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D6CF12-2548-4406-99AC-2714611933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329C71-48AB-4BEF-8488-0852B60B86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86EF2C-DF4F-4C34-A561-0DBAFC1EF2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C6930-8644-4367-9A8F-4B42C556FB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1F4CB7-5BC0-4B25-B9D6-B7A585A27B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685137-E1F1-4DF7-BC60-66CF8C7FEC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1961C-434A-43C7-A0BD-FCF9940A7A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96D1-F559-47C8-846B-AB7AC261E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B2C96-EBC5-4602-BF44-DF3C220107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3BA17C-B96D-4DD0-8BC3-7D38ACF04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14BBC-D503-4CA7-A861-E4F6EE507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00C28-6C3B-4697-AE35-69E51B898A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A1AC0-6E5E-44AA-A731-4AC56E7CB3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7358AC-F01E-4CF4-BFB7-E383B27E7B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FC4558-C898-436F-B973-1F4AB6E522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03BEA2-B506-427D-B784-8DFF45EF42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DF8B30-6306-46F6-98E3-6DF9EB0270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E4974C-F1AE-4012-9494-B14482D856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8479-7F6F-4166-B99B-7E9FB0C0225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28C7-0C7B-4CE3-BF57-187F6348DD2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880C-49F3-429E-A401-28C87D57227D}"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5ADB-F8B5-49B8-834D-21FC1C591AB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4E094-CFF8-4B27-BA9E-CE453EC68549}"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6F29-CFA2-451D-AE1C-5FDBFBA37A2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5798-004E-4E1D-B6C4-79A1F8BE50E8}"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1F9B-8DA8-4291-8F6F-AF06C94800E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7557-13AF-447F-98C0-7AC62A409CA6}"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78CE-D431-4BC1-A137-29F4DB81931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9B03-0D84-47EF-97A9-FB9458A8D739}"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271E-AE25-4E1B-827C-57ADF18D249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ECF5-92EC-449B-B779-01EAF7AC9639}"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F15D-E7E7-4A4E-B985-E1255AE60CDB}"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8158-4A42-4D7A-81B1-B601B720E97A}"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7906-3FD3-4151-9937-0AE0914F6CF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472E-58AB-4FF3-815C-763B8AD1EFEE}"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D80C-2972-4667-8F8D-FD099120B6C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07D1-C58B-4CF0-B02C-25353B877B87}"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3BF21-3F21-4A65-BF1F-3C6DB6F0EE4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D156-4A5E-463A-AF2E-4FE443286F4E}"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6622F-8244-4954-B1FC-D4D4346F89E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C385-203C-4A8B-9B4D-BC7A1130909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E5CF-7008-424E-9A26-1CBBCF0CB4B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1640" y="1676160"/>
            <a:ext cx="3886200" cy="15238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MPHASIZING EFFORT OVER OUTCOME</a:t>
            </a:r>
            <a:endParaRPr b="0" lang="en-US" sz="3200" spc="-1" strike="noStrike">
              <a:solidFill>
                <a:srgbClr val="ffffff"/>
              </a:solidFill>
              <a:latin typeface="Gill Sans MT"/>
            </a:endParaRPr>
          </a:p>
        </p:txBody>
      </p:sp>
      <p:sp>
        <p:nvSpPr>
          <p:cNvPr id="586"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Facilitated by Alex Lindsey and Michelle Stout</a:t>
            </a: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ERE ARE WE HEADING WITH THIS?</a:t>
            </a:r>
            <a:endParaRPr b="0" lang="en-US" sz="3200" spc="-1" strike="noStrike">
              <a:solidFill>
                <a:srgbClr val="ffffff"/>
              </a:solidFill>
              <a:latin typeface="Gill Sans MT"/>
            </a:endParaRPr>
          </a:p>
        </p:txBody>
      </p:sp>
      <p:sp>
        <p:nvSpPr>
          <p:cNvPr id="626" name="PlaceHolder 2"/>
          <p:cNvSpPr>
            <a:spLocks noGrp="1"/>
          </p:cNvSpPr>
          <p:nvPr>
            <p:ph/>
          </p:nvPr>
        </p:nvSpPr>
        <p:spPr>
          <a:xfrm>
            <a:off x="304920" y="1535040"/>
            <a:ext cx="4419360" cy="67464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a:t>
            </a:r>
            <a:r>
              <a:rPr b="0" lang="en-US" sz="1200" spc="-1" strike="noStrike">
                <a:solidFill>
                  <a:srgbClr val="d4d4d4"/>
                </a:solidFill>
                <a:latin typeface="Gill Sans MT"/>
              </a:rPr>
              <a:t>:  </a:t>
            </a:r>
            <a:r>
              <a:rPr b="0" lang="en-US" sz="1400" spc="-1" strike="noStrike">
                <a:solidFill>
                  <a:srgbClr val="d4d4d4"/>
                </a:solidFill>
                <a:latin typeface="Gill Sans MT"/>
              </a:rPr>
              <a:t>Discovering the Importance of Mindset</a:t>
            </a: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
        <p:nvSpPr>
          <p:cNvPr id="627" name="PlaceHolder 3"/>
          <p:cNvSpPr>
            <a:spLocks noGrp="1"/>
          </p:cNvSpPr>
          <p:nvPr>
            <p:ph/>
          </p:nvPr>
        </p:nvSpPr>
        <p:spPr>
          <a:xfrm>
            <a:off x="4343400" y="1599840"/>
            <a:ext cx="4038480" cy="369720"/>
          </a:xfrm>
          <a:prstGeom prst="rect">
            <a:avLst/>
          </a:prstGeom>
          <a:noFill/>
          <a:ln w="0">
            <a:noFill/>
          </a:ln>
        </p:spPr>
        <p:txBody>
          <a:bodyPr lIns="0" rIns="0" anchor="b">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  The Effect of Praise on Mindset</a:t>
            </a:r>
            <a:endParaRPr b="0" lang="en-US" sz="1400" spc="-1" strike="noStrike">
              <a:solidFill>
                <a:srgbClr val="ffffff"/>
              </a:solidFill>
              <a:latin typeface="Gill Sans MT"/>
            </a:endParaRPr>
          </a:p>
        </p:txBody>
      </p:sp>
      <p:sp>
        <p:nvSpPr>
          <p:cNvPr id="628" name="Rectangle 1"/>
          <p:cNvSpPr/>
          <p:nvPr/>
        </p:nvSpPr>
        <p:spPr>
          <a:xfrm>
            <a:off x="380880" y="45543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youtube.com/watch?v=2jDVd-nCEYc</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29" name="Picture 2" descr=""/>
          <p:cNvPicPr/>
          <p:nvPr/>
        </p:nvPicPr>
        <p:blipFill>
          <a:blip r:embed="rId1"/>
          <a:stretch/>
        </p:blipFill>
        <p:spPr>
          <a:xfrm>
            <a:off x="762120" y="2286000"/>
            <a:ext cx="2903400" cy="1943280"/>
          </a:xfrm>
          <a:prstGeom prst="rect">
            <a:avLst/>
          </a:prstGeom>
          <a:ln w="0">
            <a:noFill/>
          </a:ln>
        </p:spPr>
      </p:pic>
      <p:sp>
        <p:nvSpPr>
          <p:cNvPr id="630" name="Rectangle 3"/>
          <p:cNvSpPr/>
          <p:nvPr/>
        </p:nvSpPr>
        <p:spPr>
          <a:xfrm>
            <a:off x="5105520" y="455436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youtube.com/watch?v=TTXrV0_3UjY</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31" name="Picture 7" descr=""/>
          <p:cNvPicPr/>
          <p:nvPr/>
        </p:nvPicPr>
        <p:blipFill>
          <a:blip r:embed="rId2"/>
          <a:stretch/>
        </p:blipFill>
        <p:spPr>
          <a:xfrm>
            <a:off x="5219640" y="2259000"/>
            <a:ext cx="2971800" cy="196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228600"/>
            <a:ext cx="7772400" cy="8683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CORING OUR QUIZ</a:t>
            </a:r>
            <a:endParaRPr b="0" lang="en-US" sz="3600" spc="-1" strike="noStrike">
              <a:solidFill>
                <a:srgbClr val="ffffff"/>
              </a:solidFill>
              <a:latin typeface="Gill Sans MT"/>
            </a:endParaRPr>
          </a:p>
        </p:txBody>
      </p:sp>
      <p:sp>
        <p:nvSpPr>
          <p:cNvPr id="633" name="PlaceHolder 2"/>
          <p:cNvSpPr>
            <a:spLocks noGrp="1"/>
          </p:cNvSpPr>
          <p:nvPr>
            <p:ph/>
          </p:nvPr>
        </p:nvSpPr>
        <p:spPr>
          <a:xfrm>
            <a:off x="4876560" y="914400"/>
            <a:ext cx="3276360" cy="48744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Key</a:t>
            </a:r>
            <a:endParaRPr b="0" lang="en-US" sz="2000" spc="-1" strike="noStrike">
              <a:solidFill>
                <a:srgbClr val="ffffff"/>
              </a:solidFill>
              <a:latin typeface="Gill Sans MT"/>
            </a:endParaRPr>
          </a:p>
        </p:txBody>
      </p:sp>
      <p:sp>
        <p:nvSpPr>
          <p:cNvPr id="634" name="PlaceHolder 3"/>
          <p:cNvSpPr>
            <a:spLocks noGrp="1"/>
          </p:cNvSpPr>
          <p:nvPr>
            <p:ph/>
          </p:nvPr>
        </p:nvSpPr>
        <p:spPr>
          <a:xfrm>
            <a:off x="304920" y="144756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Scoring</a:t>
            </a:r>
            <a:endParaRPr b="0" lang="en-US" sz="2000" spc="-1" strike="noStrike">
              <a:solidFill>
                <a:srgbClr val="ffffff"/>
              </a:solidFill>
              <a:latin typeface="Gill Sans MT"/>
            </a:endParaRPr>
          </a:p>
        </p:txBody>
      </p:sp>
      <p:sp>
        <p:nvSpPr>
          <p:cNvPr id="635" name=""/>
          <p:cNvSpPr txBox="1"/>
          <p:nvPr/>
        </p:nvSpPr>
        <p:spPr>
          <a:xfrm>
            <a:off x="5029200" y="1523520"/>
            <a:ext cx="3657600" cy="4876920"/>
          </a:xfrm>
          <a:prstGeom prst="rect">
            <a:avLst/>
          </a:prstGeom>
          <a:noFill/>
          <a:ln w="0">
            <a:noFill/>
          </a:ln>
        </p:spPr>
        <p:txBody>
          <a:bodyPr lIns="0" rIns="0" anchor="t">
            <a:normAutofit/>
          </a:bodyPr>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ill Sans MT"/>
            </a:endParaRPr>
          </a:p>
        </p:txBody>
      </p:sp>
      <p:sp>
        <p:nvSpPr>
          <p:cNvPr id="636" name=""/>
          <p:cNvSpPr txBox="1"/>
          <p:nvPr/>
        </p:nvSpPr>
        <p:spPr>
          <a:xfrm>
            <a:off x="457200" y="2209680"/>
            <a:ext cx="3657600" cy="3200400"/>
          </a:xfrm>
          <a:prstGeom prst="rect">
            <a:avLst/>
          </a:prstGeom>
          <a:noFill/>
          <a:ln w="0">
            <a:noFill/>
          </a:ln>
        </p:spPr>
        <p:txBody>
          <a:bodyPr lIns="0" rIns="0"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rowth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 Strongly Agree – 3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0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ed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Agree – 0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3 pts</a:t>
            </a:r>
            <a:endParaRPr b="0" lang="en-US" sz="1600" spc="-1" strike="noStrike">
              <a:solidFill>
                <a:srgbClr val="ffffff"/>
              </a:solidFill>
              <a:latin typeface="Gill Sans MT"/>
            </a:endParaRPr>
          </a:p>
        </p:txBody>
      </p:sp>
      <p:sp>
        <p:nvSpPr>
          <p:cNvPr id="637" name="TextBox 7"/>
          <p:cNvSpPr/>
          <p:nvPr/>
        </p:nvSpPr>
        <p:spPr>
          <a:xfrm>
            <a:off x="728640" y="5975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9494"/>
                </a:solidFill>
                <a:latin typeface="Gill Sans MT"/>
              </a:rPr>
              <a:t>Are you surprised?</a:t>
            </a:r>
            <a:endParaRPr b="0" lang="en-US" sz="18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PERFECTIONIST HAS DEVELOPED A FIXED MINDSET:  OUTCOME OVER EFFORT</a:t>
            </a:r>
            <a:endParaRPr b="0" lang="en-US" sz="3200" spc="-1" strike="noStrike">
              <a:solidFill>
                <a:srgbClr val="ffffff"/>
              </a:solidFill>
              <a:latin typeface="Gill Sans MT"/>
            </a:endParaRPr>
          </a:p>
        </p:txBody>
      </p:sp>
      <p:pic>
        <p:nvPicPr>
          <p:cNvPr id="639" name="" descr=""/>
          <p:cNvPicPr/>
          <p:nvPr/>
        </p:nvPicPr>
        <p:blipFill>
          <a:blip r:embed="rId1"/>
          <a:stretch/>
        </p:blipFill>
        <p:spPr>
          <a:xfrm>
            <a:off x="685800" y="1600200"/>
            <a:ext cx="7772400" cy="3733920"/>
          </a:xfrm>
          <a:prstGeom prst="rect">
            <a:avLst/>
          </a:prstGeom>
          <a:ln w="0">
            <a:noFill/>
          </a:ln>
        </p:spPr>
      </p:pic>
      <p:pic>
        <p:nvPicPr>
          <p:cNvPr id="640" name="Picture 2" descr=""/>
          <p:cNvPicPr/>
          <p:nvPr/>
        </p:nvPicPr>
        <p:blipFill>
          <a:blip r:embed="rId2"/>
          <a:stretch/>
        </p:blipFill>
        <p:spPr>
          <a:xfrm>
            <a:off x="1911240" y="1635120"/>
            <a:ext cx="4953240" cy="3718080"/>
          </a:xfrm>
          <a:prstGeom prst="rect">
            <a:avLst/>
          </a:prstGeom>
          <a:ln w="0">
            <a:noFill/>
          </a:ln>
        </p:spPr>
      </p:pic>
      <p:sp>
        <p:nvSpPr>
          <p:cNvPr id="64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HAT IF I’M A PERFECTIONIST, TOO?</a:t>
            </a:r>
            <a:endParaRPr b="0" lang="en-US" sz="3600" spc="-1" strike="noStrike">
              <a:solidFill>
                <a:srgbClr val="ffffff"/>
              </a:solidFill>
              <a:latin typeface="Gill Sans MT"/>
            </a:endParaRPr>
          </a:p>
        </p:txBody>
      </p:sp>
      <p:sp>
        <p:nvSpPr>
          <p:cNvPr id="643"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How can parents shift their emphasis and praise to support growth and effort over outcome with their children?</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Let’s revisit Elizabeth’ story…</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Elizabeth you thought she was the bes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was robbed of a ribbon that was rightfully hers.</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eassure her that gymnastics is not that importan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has the ability and will surely win next time.</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didn’t deserve to win.</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ODEL SELF TALK</a:t>
            </a:r>
            <a:endParaRPr b="0" lang="en-US" sz="3600" spc="-1" strike="noStrike">
              <a:solidFill>
                <a:srgbClr val="ffffff"/>
              </a:solidFill>
              <a:latin typeface="Gill Sans MT"/>
            </a:endParaRPr>
          </a:p>
        </p:txBody>
      </p:sp>
      <p:sp>
        <p:nvSpPr>
          <p:cNvPr id="645"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 examples of positive statements: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Nobody’s perfec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ll I can do is my bes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Believing in myself -- even when I’m making mistakes -- will help me do bette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a:r>
            <a:r>
              <a:rPr b="0" lang="en-US" sz="2000" spc="-1" strike="noStrike">
                <a:solidFill>
                  <a:srgbClr val="ffffff"/>
                </a:solidFill>
                <a:latin typeface="Gill Sans MT"/>
              </a:rPr>
              <a:t>I can’t do it…………….yet.”</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w you try….</a:t>
            </a:r>
            <a:endParaRPr b="0" lang="en-US" sz="2000" spc="-1" strike="noStrike">
              <a:solidFill>
                <a:srgbClr val="ffffff"/>
              </a:solidFill>
              <a:latin typeface="Gill Sans MT"/>
            </a:endParaRPr>
          </a:p>
        </p:txBody>
      </p:sp>
      <p:sp>
        <p:nvSpPr>
          <p:cNvPr id="646"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EMPHASIZE EFFORT AND GROWTH</a:t>
            </a:r>
            <a:endParaRPr b="0" lang="en-US" sz="3600" spc="-1" strike="noStrike">
              <a:solidFill>
                <a:srgbClr val="ffffff"/>
              </a:solidFill>
              <a:latin typeface="Gill Sans MT"/>
            </a:endParaRPr>
          </a:p>
        </p:txBody>
      </p:sp>
      <p:sp>
        <p:nvSpPr>
          <p:cNvPr id="64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s a typical scenario in your h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et’s practice creating growth/effort oriented statements and praise?</a:t>
            </a:r>
            <a:endParaRPr b="0" lang="en-US" sz="2000" spc="-1" strike="noStrike">
              <a:solidFill>
                <a:srgbClr val="ffffff"/>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ERFECTION PERSPECTIVE</a:t>
            </a:r>
            <a:endParaRPr b="0" lang="en-US" sz="3600" spc="-1" strike="noStrike">
              <a:solidFill>
                <a:srgbClr val="ffffff"/>
              </a:solidFill>
              <a:latin typeface="Gill Sans MT"/>
            </a:endParaRPr>
          </a:p>
        </p:txBody>
      </p:sp>
      <p:sp>
        <p:nvSpPr>
          <p:cNvPr id="650"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51" name="Content Placeholder 5" descr=""/>
          <p:cNvPicPr/>
          <p:nvPr/>
        </p:nvPicPr>
        <p:blipFill>
          <a:blip r:embed="rId1"/>
          <a:stretch/>
        </p:blipFill>
        <p:spPr>
          <a:xfrm>
            <a:off x="2243160" y="1523880"/>
            <a:ext cx="4497480" cy="2857680"/>
          </a:xfrm>
          <a:prstGeom prst="rect">
            <a:avLst/>
          </a:prstGeom>
          <a:ln w="0">
            <a:noFill/>
          </a:ln>
        </p:spPr>
      </p:pic>
      <p:sp>
        <p:nvSpPr>
          <p:cNvPr id="652" name="Rectangle 6"/>
          <p:cNvSpPr/>
          <p:nvPr/>
        </p:nvSpPr>
        <p:spPr>
          <a:xfrm>
            <a:off x="2278080" y="4572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ted.com/talks/brian_goldman_doctors_make_mistakes_can_we_talk_about_that.html</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ANK YOU</a:t>
            </a:r>
            <a:r>
              <a:rPr b="0" lang="en-US" sz="3600" spc="-1" strike="noStrike">
                <a:solidFill>
                  <a:srgbClr val="ffffff"/>
                </a:solidFill>
                <a:latin typeface="Gill Sans MT"/>
              </a:rPr>
              <a:t>	</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54" name="PlaceHolder 2"/>
          <p:cNvSpPr>
            <a:spLocks noGrp="1"/>
          </p:cNvSpPr>
          <p:nvPr>
            <p:ph/>
          </p:nvPr>
        </p:nvSpPr>
        <p:spPr>
          <a:xfrm>
            <a:off x="685800" y="153468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Contact Information:</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5"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56" name=""/>
          <p:cNvSpPr txBox="1"/>
          <p:nvPr/>
        </p:nvSpPr>
        <p:spPr>
          <a:xfrm>
            <a:off x="456840" y="2209680"/>
            <a:ext cx="441972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ichelle Stou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5057</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ichelle.stout@thompsonschools.org</a:t>
            </a:r>
            <a:endParaRPr b="0" lang="en-US" sz="1800" spc="-1" strike="noStrike">
              <a:solidFill>
                <a:srgbClr val="ffffff"/>
              </a:solidFill>
              <a:latin typeface="Gill Sans MT"/>
            </a:endParaRPr>
          </a:p>
        </p:txBody>
      </p:sp>
      <p:sp>
        <p:nvSpPr>
          <p:cNvPr id="657" name=""/>
          <p:cNvSpPr txBox="1"/>
          <p:nvPr/>
        </p:nvSpPr>
        <p:spPr>
          <a:xfrm>
            <a:off x="4419720" y="2209680"/>
            <a:ext cx="403848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ex Lindsey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6249</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lex.lindsey@thompsonschools.org</a:t>
            </a:r>
            <a:endParaRPr b="0" lang="en-US" sz="1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IS EVENING’S AGENDA</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fontScale="98000"/>
          </a:bodyPr>
          <a:p>
            <a:pPr marL="66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How can we parents help our perfectionistic students embrace, develop, and emphasiz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growth</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effort</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ailur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chang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lexibility</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ill Sans MT"/>
            </a:endParaRPr>
          </a:p>
        </p:txBody>
      </p:sp>
      <p:sp>
        <p:nvSpPr>
          <p:cNvPr id="58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0" name="Picture 2" descr=""/>
          <p:cNvPicPr/>
          <p:nvPr/>
        </p:nvPicPr>
        <p:blipFill>
          <a:blip r:embed="rId1"/>
          <a:stretch/>
        </p:blipFill>
        <p:spPr>
          <a:xfrm>
            <a:off x="4038480" y="2743200"/>
            <a:ext cx="3426120" cy="239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DOES PERFECTIONISM LOOK LIKE?</a:t>
            </a:r>
            <a:endParaRPr b="0" lang="en-US" sz="3200" spc="-1" strike="noStrike">
              <a:solidFill>
                <a:srgbClr val="ffffff"/>
              </a:solidFill>
              <a:latin typeface="Gill Sans MT"/>
            </a:endParaRPr>
          </a:p>
        </p:txBody>
      </p:sp>
      <p:sp>
        <p:nvSpPr>
          <p:cNvPr id="592" name=""/>
          <p:cNvSpPr txBox="1"/>
          <p:nvPr/>
        </p:nvSpPr>
        <p:spPr>
          <a:xfrm>
            <a:off x="228600" y="1218960"/>
            <a:ext cx="8686800" cy="373356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ndency to become highly anxious, angry or upset about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procrastination and difficulty completing task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Easily frustrated and gives up easily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fear of embarrassment or humiliation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verly cautious and thorough in tasks </a:t>
            </a:r>
            <a:r>
              <a:rPr b="0" lang="en-US" sz="1200" spc="-1" strike="noStrike">
                <a:solidFill>
                  <a:srgbClr val="ffffff"/>
                </a:solidFill>
                <a:latin typeface="Gill Sans MT"/>
              </a:rPr>
              <a:t>(ex: spending 3 hours on homework that should take 20 minutes) </a:t>
            </a:r>
            <a:endParaRPr b="0" lang="en-US" sz="12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Tries to improve things by rewriting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Frequent catastrophic reactions or meltdowns when things don’t go as expected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Refusal to try new things and risk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6" descr=""/>
          <p:cNvPicPr/>
          <p:nvPr/>
        </p:nvPicPr>
        <p:blipFill>
          <a:blip r:embed="rId1"/>
          <a:stretch/>
        </p:blipFill>
        <p:spPr>
          <a:xfrm>
            <a:off x="1981080" y="4578480"/>
            <a:ext cx="2286000" cy="1828800"/>
          </a:xfrm>
          <a:prstGeom prst="rect">
            <a:avLst/>
          </a:prstGeom>
          <a:ln w="0">
            <a:noFill/>
          </a:ln>
        </p:spPr>
      </p:pic>
      <p:pic>
        <p:nvPicPr>
          <p:cNvPr id="594" name="Picture 2" descr=""/>
          <p:cNvPicPr/>
          <p:nvPr/>
        </p:nvPicPr>
        <p:blipFill>
          <a:blip r:embed="rId2"/>
          <a:stretch/>
        </p:blipFill>
        <p:spPr>
          <a:xfrm>
            <a:off x="4724280" y="4572000"/>
            <a:ext cx="22860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TAKE A QUICK QUIZ….</a:t>
            </a:r>
            <a:endParaRPr b="0" lang="en-US" sz="3600" spc="-1" strike="noStrike">
              <a:solidFill>
                <a:srgbClr val="ffffff"/>
              </a:solidFill>
              <a:latin typeface="Gill Sans MT"/>
            </a:endParaRPr>
          </a:p>
        </p:txBody>
      </p:sp>
      <p:sp>
        <p:nvSpPr>
          <p:cNvPr id="59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on how you believe </a:t>
            </a:r>
            <a:r>
              <a:rPr b="0" lang="en-US" sz="2000" spc="-1" strike="noStrike" u="sng">
                <a:solidFill>
                  <a:srgbClr val="ffffff"/>
                </a:solidFill>
                <a:uFillTx/>
                <a:latin typeface="Gill Sans MT"/>
              </a:rPr>
              <a:t>YOUR CHILD</a:t>
            </a:r>
            <a:r>
              <a:rPr b="0" lang="en-US" sz="2000" spc="-1" strike="noStrike">
                <a:solidFill>
                  <a:srgbClr val="ffffff"/>
                </a:solidFill>
                <a:latin typeface="Gill Sans MT"/>
              </a:rPr>
              <a:t> would answer the ques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8" name="Picture 2" descr=""/>
          <p:cNvPicPr/>
          <p:nvPr/>
        </p:nvPicPr>
        <p:blipFill>
          <a:blip r:embed="rId1"/>
          <a:stretch/>
        </p:blipFill>
        <p:spPr>
          <a:xfrm>
            <a:off x="2860560" y="2895480"/>
            <a:ext cx="3486240" cy="2333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NOW YOU!</a:t>
            </a:r>
            <a:endParaRPr b="0" lang="en-US" sz="3600" spc="-1" strike="noStrike">
              <a:solidFill>
                <a:srgbClr val="ffffff"/>
              </a:solidFill>
              <a:latin typeface="Gill Sans MT"/>
            </a:endParaRPr>
          </a:p>
        </p:txBody>
      </p:sp>
      <p:sp>
        <p:nvSpPr>
          <p:cNvPr id="600"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To what extent do </a:t>
            </a:r>
            <a:r>
              <a:rPr b="0" lang="en-US" sz="2000" spc="-1" strike="noStrike" u="sng">
                <a:solidFill>
                  <a:srgbClr val="ffffff"/>
                </a:solidFill>
                <a:uFillTx/>
                <a:latin typeface="Gill Sans MT"/>
              </a:rPr>
              <a:t>YOU</a:t>
            </a:r>
            <a:r>
              <a:rPr b="0" lang="en-US" sz="2000" spc="-1" strike="noStrike">
                <a:solidFill>
                  <a:srgbClr val="ffffff"/>
                </a:solidFill>
                <a:latin typeface="Gill Sans MT"/>
              </a:rPr>
              <a:t> agree or disagree with these stateme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02" name="Picture 2" descr=""/>
          <p:cNvPicPr/>
          <p:nvPr/>
        </p:nvPicPr>
        <p:blipFill>
          <a:blip r:embed="rId1"/>
          <a:stretch/>
        </p:blipFill>
        <p:spPr>
          <a:xfrm>
            <a:off x="2838600" y="3124080"/>
            <a:ext cx="3487680" cy="233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685800" y="685800"/>
            <a:ext cx="7772400" cy="46483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a:t>
            </a:r>
            <a:r>
              <a:rPr b="0" lang="en-US" sz="4400" spc="-1" strike="noStrike">
                <a:solidFill>
                  <a:srgbClr val="ffffff"/>
                </a:solidFill>
                <a:latin typeface="Gill Sans MT"/>
              </a:rPr>
              <a:t>I wonder what I can do today to undermine my children, turn off their learning and limit their achievement?”</a:t>
            </a: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pic>
        <p:nvPicPr>
          <p:cNvPr id="604" name="Picture 2" descr=""/>
          <p:cNvPicPr/>
          <p:nvPr/>
        </p:nvPicPr>
        <p:blipFill>
          <a:blip r:embed="rId1"/>
          <a:stretch/>
        </p:blipFill>
        <p:spPr>
          <a:xfrm rot="588000">
            <a:off x="4686120" y="3463920"/>
            <a:ext cx="325404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SSAGES WE SEND TO OUR CHILDREN</a:t>
            </a:r>
            <a:endParaRPr b="0" lang="en-US" sz="3200" spc="-1" strike="noStrike">
              <a:solidFill>
                <a:srgbClr val="ffffff"/>
              </a:solidFill>
              <a:latin typeface="Gill Sans MT"/>
            </a:endParaRPr>
          </a:p>
        </p:txBody>
      </p:sp>
      <p:sp>
        <p:nvSpPr>
          <p:cNvPr id="606" name=""/>
          <p:cNvSpPr txBox="1"/>
          <p:nvPr/>
        </p:nvSpPr>
        <p:spPr>
          <a:xfrm>
            <a:off x="685800" y="1536480"/>
            <a:ext cx="3657600" cy="265428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we say to our children….</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7" name=""/>
          <p:cNvSpPr txBox="1"/>
          <p:nvPr/>
        </p:nvSpPr>
        <p:spPr>
          <a:xfrm>
            <a:off x="4800600" y="1536840"/>
            <a:ext cx="3657600" cy="234936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our children hea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608" name="Rounded Rectangular Callout 8"/>
          <p:cNvSpPr/>
          <p:nvPr/>
        </p:nvSpPr>
        <p:spPr>
          <a:xfrm>
            <a:off x="4610160" y="2400480"/>
            <a:ext cx="3352680" cy="952200"/>
          </a:xfrm>
          <a:prstGeom prst="wedgeRoundRectCallout">
            <a:avLst>
              <a:gd name="adj1" fmla="val -44055"/>
              <a:gd name="adj2" fmla="val 65893"/>
              <a:gd name="adj3" fmla="val 16667"/>
            </a:avLst>
          </a:prstGeom>
          <a:solidFill>
            <a:srgbClr val="86ce24"/>
          </a:solidFill>
          <a:ln w="12600">
            <a:solidFill>
              <a:srgbClr val="6197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09" name="Rounded Rectangular Callout 11"/>
          <p:cNvSpPr/>
          <p:nvPr/>
        </p:nvSpPr>
        <p:spPr>
          <a:xfrm flipH="1">
            <a:off x="1380240" y="1981080"/>
            <a:ext cx="2971800" cy="838440"/>
          </a:xfrm>
          <a:prstGeom prst="wedgeRoundRectCallout">
            <a:avLst>
              <a:gd name="adj1" fmla="val -44055"/>
              <a:gd name="adj2" fmla="val 65893"/>
              <a:gd name="adj3" fmla="val 16667"/>
            </a:avLst>
          </a:prstGeom>
          <a:solidFill>
            <a:srgbClr val="00a2e6"/>
          </a:solidFill>
          <a:ln w="12600">
            <a:solidFill>
              <a:srgbClr val="0076a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10" name="Picture 4" descr=""/>
          <p:cNvPicPr/>
          <p:nvPr/>
        </p:nvPicPr>
        <p:blipFill>
          <a:blip r:embed="rId1"/>
          <a:stretch/>
        </p:blipFill>
        <p:spPr>
          <a:xfrm>
            <a:off x="1380960" y="3255840"/>
            <a:ext cx="2988000" cy="1195560"/>
          </a:xfrm>
          <a:prstGeom prst="rect">
            <a:avLst/>
          </a:prstGeom>
          <a:ln w="0">
            <a:noFill/>
          </a:ln>
        </p:spPr>
      </p:pic>
      <p:pic>
        <p:nvPicPr>
          <p:cNvPr id="611" name="Picture 5" descr=""/>
          <p:cNvPicPr/>
          <p:nvPr/>
        </p:nvPicPr>
        <p:blipFill>
          <a:blip r:embed="rId2"/>
          <a:stretch/>
        </p:blipFill>
        <p:spPr>
          <a:xfrm>
            <a:off x="1373040" y="4624560"/>
            <a:ext cx="2988000" cy="1233360"/>
          </a:xfrm>
          <a:prstGeom prst="rect">
            <a:avLst/>
          </a:prstGeom>
          <a:ln w="0">
            <a:noFill/>
          </a:ln>
        </p:spPr>
      </p:pic>
      <p:pic>
        <p:nvPicPr>
          <p:cNvPr id="612" name="Picture 7" descr=""/>
          <p:cNvPicPr/>
          <p:nvPr/>
        </p:nvPicPr>
        <p:blipFill>
          <a:blip r:embed="rId3"/>
          <a:stretch/>
        </p:blipFill>
        <p:spPr>
          <a:xfrm>
            <a:off x="4610160" y="3948120"/>
            <a:ext cx="3365280" cy="1224000"/>
          </a:xfrm>
          <a:prstGeom prst="rect">
            <a:avLst/>
          </a:prstGeom>
          <a:ln w="0">
            <a:noFill/>
          </a:ln>
        </p:spPr>
      </p:pic>
      <p:sp>
        <p:nvSpPr>
          <p:cNvPr id="613" name="TextBox 9"/>
          <p:cNvSpPr/>
          <p:nvPr/>
        </p:nvSpPr>
        <p:spPr>
          <a:xfrm>
            <a:off x="1523880" y="2057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 learned that so quickly!  You’re so smart!”</a:t>
            </a:r>
            <a:endParaRPr b="0" lang="en-US" sz="1800" spc="-1" strike="noStrike">
              <a:solidFill>
                <a:srgbClr val="ffffff"/>
              </a:solidFill>
              <a:latin typeface="Gill Sans MT"/>
            </a:endParaRPr>
          </a:p>
        </p:txBody>
      </p:sp>
      <p:sp>
        <p:nvSpPr>
          <p:cNvPr id="614" name="TextBox 10"/>
          <p:cNvSpPr/>
          <p:nvPr/>
        </p:nvSpPr>
        <p:spPr>
          <a:xfrm>
            <a:off x="4925880" y="2577960"/>
            <a:ext cx="28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f I don’t learn something quickly, I’m not smart.”</a:t>
            </a:r>
            <a:endParaRPr b="0" lang="en-US" sz="1800" spc="-1" strike="noStrike">
              <a:solidFill>
                <a:srgbClr val="ffffff"/>
              </a:solidFill>
              <a:latin typeface="Gill Sans MT"/>
            </a:endParaRPr>
          </a:p>
        </p:txBody>
      </p:sp>
      <p:sp>
        <p:nvSpPr>
          <p:cNvPr id="615" name="TextBox 12"/>
          <p:cNvSpPr/>
          <p:nvPr/>
        </p:nvSpPr>
        <p:spPr>
          <a:xfrm>
            <a:off x="1603440" y="3284640"/>
            <a:ext cx="267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Look at the drawing.  Martha, is he the next Picasso or what?”</a:t>
            </a:r>
            <a:endParaRPr b="0" lang="en-US" sz="1800" spc="-1" strike="noStrike">
              <a:solidFill>
                <a:srgbClr val="ffffff"/>
              </a:solidFill>
              <a:latin typeface="Gill Sans MT"/>
            </a:endParaRPr>
          </a:p>
        </p:txBody>
      </p:sp>
      <p:sp>
        <p:nvSpPr>
          <p:cNvPr id="616" name="TextBox 13"/>
          <p:cNvSpPr/>
          <p:nvPr/>
        </p:nvSpPr>
        <p:spPr>
          <a:xfrm>
            <a:off x="1600200" y="472428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re so brilliant, you got an A without even studying!”</a:t>
            </a:r>
            <a:endParaRPr b="0" lang="en-US" sz="1800" spc="-1" strike="noStrike">
              <a:solidFill>
                <a:srgbClr val="ffffff"/>
              </a:solidFill>
              <a:latin typeface="Gill Sans MT"/>
            </a:endParaRPr>
          </a:p>
        </p:txBody>
      </p:sp>
      <p:sp>
        <p:nvSpPr>
          <p:cNvPr id="617" name="TextBox 14"/>
          <p:cNvSpPr/>
          <p:nvPr/>
        </p:nvSpPr>
        <p:spPr>
          <a:xfrm>
            <a:off x="4952880" y="3997440"/>
            <a:ext cx="294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 shouldn’t try drawing anything hard or they’ll see I’m no Picasso.”</a:t>
            </a:r>
            <a:endParaRPr b="0" lang="en-US" sz="1800" spc="-1" strike="noStrike">
              <a:solidFill>
                <a:srgbClr val="ffffff"/>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START WITH A STORY</a:t>
            </a:r>
            <a:endParaRPr b="0" lang="en-US" sz="3600" spc="-1" strike="noStrike">
              <a:solidFill>
                <a:srgbClr val="ffffff"/>
              </a:solidFill>
              <a:latin typeface="Gill Sans MT"/>
            </a:endParaRPr>
          </a:p>
        </p:txBody>
      </p:sp>
      <p:sp>
        <p:nvSpPr>
          <p:cNvPr id="619" name=""/>
          <p:cNvSpPr txBox="1"/>
          <p:nvPr/>
        </p:nvSpPr>
        <p:spPr>
          <a:xfrm>
            <a:off x="685800" y="1600200"/>
            <a:ext cx="7772400" cy="3733920"/>
          </a:xfrm>
          <a:prstGeom prst="rect">
            <a:avLst/>
          </a:prstGeom>
          <a:noFill/>
          <a:ln w="0">
            <a:noFill/>
          </a:ln>
        </p:spPr>
        <p:txBody>
          <a:bodyPr lIns="0" rIns="0" anchor="t">
            <a:normAutofit fontScale="97000"/>
          </a:bodyPr>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ine-year-old Elizabeth was on her way to her first gymnastics meet.  Lanky, flexible and energetic, she was just right for gymnastics, and she loved it.  Of course, she was a little nervous about competing, but she was good at gymnastics and felt confident of doing well.  She had even thought about the perfect place in her room to hang the ribbon she was sure to win.</a:t>
            </a:r>
            <a:endParaRPr b="0" lang="en-US" sz="2000" spc="-1" strike="noStrike">
              <a:solidFill>
                <a:srgbClr val="ffffff"/>
              </a:solidFill>
              <a:latin typeface="Gill Sans MT"/>
            </a:endParaRPr>
          </a:p>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first event, the floor exercises, Elizabeth went first.  Although she did a nice job, the scoring changed after the first few girls and she lost.  Elizabeth also did well in the other events, but not well enough to win.  By the end of the evening, she had received no ribbons and was devastated.</a:t>
            </a:r>
            <a:endParaRPr b="0" lang="en-US" sz="2000" spc="-1" strike="noStrike">
              <a:solidFill>
                <a:srgbClr val="ffffff"/>
              </a:solidFill>
              <a:latin typeface="Gill Sans MT"/>
            </a:endParaRPr>
          </a:p>
        </p:txBody>
      </p:sp>
      <p:pic>
        <p:nvPicPr>
          <p:cNvPr id="620" name="Picture 2" descr=""/>
          <p:cNvPicPr/>
          <p:nvPr/>
        </p:nvPicPr>
        <p:blipFill>
          <a:blip r:embed="rId1"/>
          <a:stretch/>
        </p:blipFill>
        <p:spPr>
          <a:xfrm>
            <a:off x="6400800" y="152280"/>
            <a:ext cx="1454040" cy="1454400"/>
          </a:xfrm>
          <a:prstGeom prst="rect">
            <a:avLst/>
          </a:prstGeom>
          <a:ln w="0">
            <a:noFill/>
          </a:ln>
        </p:spPr>
      </p:pic>
      <p:sp>
        <p:nvSpPr>
          <p:cNvPr id="62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WOULD YOU DO IF YOU WERE ELIZABETH'S PARENTS?</a:t>
            </a:r>
            <a:endParaRPr b="0" lang="en-US" sz="3200" spc="-1" strike="noStrike">
              <a:solidFill>
                <a:srgbClr val="ffffff"/>
              </a:solidFill>
              <a:latin typeface="Gill Sans MT"/>
            </a:endParaRPr>
          </a:p>
        </p:txBody>
      </p:sp>
      <p:sp>
        <p:nvSpPr>
          <p:cNvPr id="62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Elizabeth you thought she was the bes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was robbed of a ribbon that was rightfully her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assure her that gymnastics is not that importa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has the ability and will surely win next ti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didn’t deserve to win.</a:t>
            </a:r>
            <a:endParaRPr b="0" lang="en-US" sz="2000" spc="-1" strike="noStrike">
              <a:solidFill>
                <a:srgbClr val="ffffff"/>
              </a:solidFill>
              <a:latin typeface="Gill Sans MT"/>
            </a:endParaRPr>
          </a:p>
        </p:txBody>
      </p:sp>
      <p:sp>
        <p:nvSpPr>
          <p:cNvPr id="62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6:59:07Z</dcterms:created>
  <dc:creator>Stout, Michelle T</dc:creator>
  <dc:description/>
  <dc:language>en-US</dc:language>
  <cp:lastModifiedBy>Stout, Michelle T</cp:lastModifiedBy>
  <cp:lastPrinted>2013-11-13T20:46:30Z</cp:lastPrinted>
  <dcterms:modified xsi:type="dcterms:W3CDTF">2013-11-14T18:02:38Z</dcterms:modified>
  <cp:revision>42</cp:revision>
  <dc:subject/>
  <dc:title>Emphasizing Effort over outcome</dc:title>
</cp:coreProperties>
</file>